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2BD-B8F1-4D09-A54C-B21381BC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231-91B6-419A-AC79-E9218AAF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802-A71C-430E-A1CD-489268F3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C9A-806C-4E6E-8466-88093B26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C766-51E3-4A38-B92E-61F6D346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2228-14B3-4DF4-BE61-5869D405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D000-4198-4199-ACFD-78BDF0CB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1C5A-44BF-41BB-BF41-0B5A1A06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D258-D730-4ECA-841A-B989FAF8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9B1D-A791-4954-A44A-97909EC3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0725-F29C-4F99-B534-21E6714A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B1E-4801-46CD-9261-23AC2B70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80F6-E1CC-46F4-9F69-9D3CBDCA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5ACD-A226-4104-8DD1-1CF452FF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EEC6-9725-4A5E-A3FF-A4027FBE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59E3-610B-4E11-ACEE-9C90213A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CC69-3435-4A91-B0D5-D60C1270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554A-E803-4702-B591-229ED6AC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FB6-EA9C-490B-B514-3D2FC36E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681-DF72-41E0-A9ED-D1BB6553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198-BE85-4F24-B2C5-69E989A6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E33-4706-4565-8262-2375298C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D02-12B3-499B-B03F-D7882B85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BB8F-5BA1-4056-AD76-1734A633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9342-FDC8-46D3-8003-1EF5E13C42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F443-4531-4B73-9F2C-95216DCE9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CHAPTER  6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DUEL FOR NORTH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ench and Indian 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Europe, England and Prussia against France, Spain, Austria and Russ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merica, French and their Indian allies against British, colonists and their Indian al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85800" y="1684440"/>
            <a:ext cx="2779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Albany Congre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of 13 Colonies send re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-range purp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-range purp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 Franklin’s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0388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French and Indian War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t Duques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le of the Wilderness 7/9/5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dd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s pumme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hington a h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716360" y="1600200"/>
            <a:ext cx="3900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French and Indian War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iam Pitt new Prime Min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Commoner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policies toward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uisbur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es Wolfe –Queb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698480"/>
            <a:ext cx="40384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723920" y="914400"/>
            <a:ext cx="3962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y of Paris 176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ada seceded to Bri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nch forced to give Louisiana to Sp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give Florida to the Br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e completely out of N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300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Affects of War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,000 Americans fight in the wa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es emerge with renewed confidence in their military abil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th of invincible Brit. troops shatter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s have contempt for colonial milit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olonists had not supported the w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er Colonial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Impact of War on Colonist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sense of Freedom-French G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l less dependent on Br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spread into Ohio Val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an threat re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ntiac’s Rebe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26708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roclamation of 1763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it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Britain’s objec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the colonists react to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42195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d of Chap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French Settlement in North Americ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came late to NA colon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ict of Nan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uis XIV: 1643-171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uel de Champl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ruled Canada autocratical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s Canada grew slow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8954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632480" y="1143000"/>
            <a:ext cx="4176720" cy="5334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105520" y="649116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rench holdings: 17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24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New France Fans Ou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9520" y="160020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ver and other furs important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r-trappers ranged over Frenc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interaction with Native Amer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ation of Voyageu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it Mission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2004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p 6.2: Fur-Trading Po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69132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Other French Explor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oine Cadillac founded Detro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de La Salle: interior basin “Louisi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1700s establish a number of posts on the Mississippi riv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Orle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unded in 1718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ce of New Orlea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ash of Empir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g Williams’ War 1689-169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ar of the league of Augsbur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and allies against French and Spanish to try to check the power of F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en Anne’s War 1702-171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ar of Spanish Successio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ght when Louis XIV tries to put his Grandson on the throne of Sp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3657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reaty of Utrech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land get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a Scot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found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dson Bay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trading rights in Spanish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114800" y="685800"/>
            <a:ext cx="4645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ash of Empir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 George’s War—1744-48 (War of Austrian Succession in Europ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and Spain against British (in North Americ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e Breton Is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s give it back in the peace treaty.  (1748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Englanders outraged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Background to French and Indian War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io Valley disp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. Governor Dinwitty sends militia and George Washing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t Neces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W forced to surrender after 10-hour sie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official start of the French and Indian War (Seven-Years Wa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20:02:28Z</dcterms:created>
  <dc:creator>John Steere</dc:creator>
  <dc:description/>
  <dc:language>en-US</dc:language>
  <cp:lastModifiedBy>John Steere</cp:lastModifiedBy>
  <dcterms:modified xsi:type="dcterms:W3CDTF">2007-06-03T17:00:09Z</dcterms:modified>
  <cp:revision>10</cp:revision>
  <dc:subject/>
  <dc:title>CHAPTER  6 </dc:title>
</cp:coreProperties>
</file>